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6EB8-18CC-424B-97D1-D364E0C0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132-830A-4D4C-BD08-9C8AA3AC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FE3-4AAF-48B5-A80A-1E77CD1D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773B-165C-4BA6-9EF3-F09680C0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0DAD-0AC9-4AC4-8C6A-739F4648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4CEF-98E8-4500-8740-DBDF3A3A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806-6E2A-4E84-845B-8BC3E135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62E7-9269-4956-A4A0-97D7D930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CC4A-0518-434E-9899-DF941C09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605C-2B6A-4C7A-B0A5-FD6F5B5D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1D41-670C-4533-8610-7E5A1AD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2448-CB36-41FB-9124-BB1402BE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03F1-269B-4388-9D51-6587A2BC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7443-4827-440F-B969-0978354F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2EAB-495F-4320-9B8D-2E8F6B9D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B9FC-A8B3-494B-B0B3-FC87179E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33BC-C348-40B7-8A57-2665F1BB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2B7F-B412-40AB-A24A-14EF81CF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E2C-D9E4-4AA9-9097-C670C1B6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687-5620-4F27-9EC2-888BFB70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5C0-C39B-4E27-83EC-449327DA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7C2-D1F5-434E-A0CE-33DE2D16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739C-822B-4545-A14A-31FD79E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947-70D3-4DAC-A578-69BA634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523D-C787-414D-9C41-FFC677CB5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217D-2B07-4C6F-A3D0-EA6963396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514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Dow Jones Industrial Averag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93432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the Dow Jones Industrial Averag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845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w Jones Industrial Average tracks the stocks of 30 of the largest and most widely held companies in the United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considered by many financial analysts to be the most important world stock indica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6019920" y="3562200"/>
            <a:ext cx="3152520" cy="1447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of these companies include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9226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-M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Donald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a-C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 Dep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xon-Mob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lt Dis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3505320" y="817560"/>
            <a:ext cx="1442880" cy="1120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5410080" y="86832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4"/>
          <a:stretch/>
        </p:blipFill>
        <p:spPr>
          <a:xfrm>
            <a:off x="7543800" y="817560"/>
            <a:ext cx="1143000" cy="154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3124080" y="2286000"/>
            <a:ext cx="26002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6"/>
          <a:stretch/>
        </p:blipFill>
        <p:spPr>
          <a:xfrm>
            <a:off x="6019920" y="2133720"/>
            <a:ext cx="1295280" cy="139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7"/>
          <a:stretch/>
        </p:blipFill>
        <p:spPr>
          <a:xfrm>
            <a:off x="2917800" y="4419720"/>
            <a:ext cx="3165480" cy="189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8"/>
          <a:stretch/>
        </p:blipFill>
        <p:spPr>
          <a:xfrm>
            <a:off x="6541920" y="5140440"/>
            <a:ext cx="21448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Dow Jones Average 1900-2010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24840" cy="500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is the average calculate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JIA is calculated by adding the sum stock values of the 30 companies listed in the index and dividing the sum by an established divis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urrent divisor is .012555270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the divisor is less than one it actually serves as a multipl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storic Hig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846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DJIA reached an historic high on October 9, 2007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t closed at </a:t>
            </a:r>
            <a:r>
              <a:rPr b="1" i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14,164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32558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Dow Today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2666520"/>
            <a:ext cx="869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JIA  was at 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12,965.00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s of the closing bell yester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story of the Dow J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e are going to watch a video that talks about the origins of the Dow Jones Industrial Average and provides an economic history of the nation from the late 1800’s until the mid-1990’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video, we will focus upon investing mo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4:06:10Z</dcterms:created>
  <dc:creator>Sys Admin</dc:creator>
  <dc:description/>
  <dc:language>en-US</dc:language>
  <cp:lastModifiedBy>SysAdmin</cp:lastModifiedBy>
  <dcterms:modified xsi:type="dcterms:W3CDTF">2012-02-21T14:41:59Z</dcterms:modified>
  <cp:revision>31</cp:revision>
  <dc:subject/>
  <dc:title>What’s Going On With the Economy?</dc:title>
</cp:coreProperties>
</file>